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B54-0825-46AB-B752-9948FCBE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501-119F-4128-861E-200DFB4C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9D2-4487-4F0F-9BF8-3DBE14F0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25F-DBFB-4280-8BE3-C739D3CD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E600-1418-4E2E-A07A-7B7685F0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13D4-B3C9-49C5-9F80-5A1D0056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ACFD-D9D8-41D6-ACA1-A8E43132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BFA8-E76C-44BE-8205-508B0167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4C7A-75DA-4AB8-8113-658F41BC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4ABC-211B-4DF7-A581-5A2C21B7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826B-7D4F-4C0E-BC86-6F94032F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349-6485-4791-B590-B3BA1D9F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F5C7-49E6-43EB-A54E-A8128D7F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0E75-7FC9-4DDE-B72B-B893EE89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DCAF-A17D-4A2A-8600-004D76D8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898F-CA45-4B2C-A494-AE2D2BFB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DDC7-220E-4473-B078-8024884D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4D7-FE8C-4D68-A419-DC574248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79B-0414-4827-AEE3-CE1D7D2B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341-5EB1-4771-8A83-A4B2243D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60D-9A87-4B2F-89B8-6DBCAF3B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1D9-010E-4354-8144-8AADE9E9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6D2-D781-4B47-ABA7-FA194875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448-E2E4-48FC-B5B8-C0D2418D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7F0898-6062-4671-80C9-9E3B98D2F70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9EC1C0-B380-45A4-8205-B9C5FA2F374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PHASE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802440" y="2209680"/>
            <a:ext cx="739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r main interest in naming electric systems or devices is in the p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38080" y="2828880"/>
            <a:ext cx="7619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transfer to the network from the source is called positive power, while energy movement to the source from the network is negative p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3809880"/>
            <a:ext cx="7543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- phase systems are quite satisfactory when the a.c is applied for heating.  But for use in an a.c motor the single - phase system proves inadequ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 6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 the following current phasors as instantaneous currents, all at a frequenc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     (a) 10 &lt;0     (b)  25 &lt; -30    (c)  6 &lt; -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  i = √2 (10) Si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= 14.4 Sin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i = √2 (25) Sin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– 30o) = 35.35 Sin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– 30o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i = √2 (6) Sin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– 90o) = 8.484 Sin 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– 90o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533520" y="2971800"/>
            <a:ext cx="83815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erc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se voltage of a star-connected alternator are ER = 231 &lt; 0V; and EY = 231&lt; -120V; and EB = 231 &lt;+120V.  Determine the phase sequence. Evaluate ERY and EY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swer ERY = EYB = 400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A 400V, three phase voltage is supplied to a balanced three phase delta connected load of phase impedance (15 + j20)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Determine :  i) The phase current in each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) power  consumption Per phase ? iii) The vector  sum of the three line current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swer IL = 27.7A, P = 3,840W,  Phasor sum = 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 between line and phase volta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04920" y="1266840"/>
            <a:ext cx="4171680" cy="216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724280" y="1250640"/>
            <a:ext cx="3657240" cy="240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800280" y="3809880"/>
            <a:ext cx="7581600" cy="22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240" cy="57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the subscripts L and P for line and phase quantities respectively, we can summarize as follow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√3V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14400" y="1523880"/>
            <a:ext cx="7772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ta connected system with a balanced l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 5.3 Delta  connected system with balanced l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fig. 5.3,the voltage on the line and phase are equal. i.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05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en-US" sz="105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nd    I</a:t>
            </a:r>
            <a:r>
              <a:rPr b="0" lang="en-US" sz="105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√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05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40880" y="3200400"/>
            <a:ext cx="5810040" cy="21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24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ample 5.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line voltage source of 400V and non-inductive loads of 10kW, 8kW and 5kW, all in a 3-phase 4-wire network, are linked to the respective conductors and neutral as depicted in fig. 5.5. Determine (a) the individual line currents, and (b) the neutral conductor curr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391160" cy="243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552480" cy="1914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5029200" y="3276720"/>
            <a:ext cx="3647880" cy="825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5076720" y="4102560"/>
            <a:ext cx="3457080" cy="83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609480" y="4939200"/>
            <a:ext cx="2997360" cy="699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3809880" y="4991040"/>
            <a:ext cx="4266720" cy="150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240" cy="63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lut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– 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333760" cy="1142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3733920" y="952560"/>
            <a:ext cx="5295600" cy="196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408600" y="2286000"/>
            <a:ext cx="3400920" cy="91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4"/>
          <a:stretch/>
        </p:blipFill>
        <p:spPr>
          <a:xfrm>
            <a:off x="240120" y="3429000"/>
            <a:ext cx="3590640" cy="121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5"/>
          <a:stretch/>
        </p:blipFill>
        <p:spPr>
          <a:xfrm>
            <a:off x="408600" y="4648320"/>
            <a:ext cx="3753360" cy="129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6"/>
          <a:stretch/>
        </p:blipFill>
        <p:spPr>
          <a:xfrm>
            <a:off x="4419720" y="3099600"/>
            <a:ext cx="418104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933960" cy="208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2209680" y="2543040"/>
            <a:ext cx="49975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with balanced 3-phase 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457840" cy="52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rms value of the current in individual pha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 = rms value of the p.d. across each pha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per phase  = IpVp x power facto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           Total power=  3IpVp x power fact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the symbols 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the rms line voltage and current respectively, then for a star-connected system;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 =𝑉𝐿/ √3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  =  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tituting for Vp and Ip in equation , we have,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=√3 V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x pf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connected system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   =   V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  =  𝐼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𝐿 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√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ubstituting in equation ,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=√3 V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x pf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ts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in a balanced 3- </a:t>
            </a:r>
            <a:r>
              <a:rPr b="0" lang="az-Cyrl-AZ" sz="1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oad the total power is always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=√3 V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x pf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respective of the types of conne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240" cy="58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three phase motor operating on a 400V system is developing 20kw at an efficiency of 0.87 with pf of 0.82. Calculate: (a) the line current and (b) the phase current if the windings are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connec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133360" cy="1240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4076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24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5486040" cy="54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  <Words>650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perLG</dc:creator>
  <dc:description/>
  <dc:language>en-US</dc:language>
  <cp:lastModifiedBy>SuperLG</cp:lastModifiedBy>
  <dcterms:modified xsi:type="dcterms:W3CDTF">2019-09-12T05:45:01Z</dcterms:modified>
  <cp:revision>18</cp:revision>
  <dc:subject/>
  <dc:title>THREE PHASE SYSTE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